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7.xml.rels" ContentType="application/vnd.openxmlformats-package.relationships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6D47F-97CD-4F52-B227-742DA95FE327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DE958-1596-4D41-8BEA-86209A9C48F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1800" cy="14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EA80-49B3-4A27-BC1B-75DE9DBFF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B11C-A331-4340-BC04-55BCC4368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E5AF-48FC-4E16-AAE6-12376F8A4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974C-9269-4D73-92BD-F0A5525D8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104B-634C-487E-92D5-22BF75A30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FA8A-FDA5-4973-8BCC-5E62EF996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F8D5-97AE-4281-ABDB-6FF53E5A4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0720-8428-4E65-A2EB-2235EFA1B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DAB4-6B1A-4517-9E04-EB073F6EB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9649-BC99-425D-94D7-AC6D6CDB5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2ADB-95F4-4129-80A0-8ED4184EE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4734-9796-44D1-AC86-09FFC1BA2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1A0A5-F64D-4B80-98B1-6F37654FFB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40328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il Liceo Scientifico a.s. 2014-2015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97164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000" spc="-1" strike="noStrike">
                <a:solidFill>
                  <a:srgbClr val="000000"/>
                </a:solidFill>
                <a:latin typeface="Arial"/>
              </a:rPr>
              <a:t>SEMINARIO DI APPROFONDIMENTO SUGLI ESAMI DI STATO  </a:t>
            </a:r>
            <a:br>
              <a:rPr sz="4000"/>
            </a:br>
            <a:r>
              <a:rPr b="1" i="1" lang="it-IT" sz="4000" spc="-1" strike="noStrike">
                <a:solidFill>
                  <a:srgbClr val="000000"/>
                </a:solidFill>
                <a:latin typeface="Arial"/>
              </a:rPr>
              <a:t>SECONDO CICLO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Forti perplessità da parte dei docen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Lettera al ministro promossa dalla Lista Cabrì (Domingo Paola – Luigi Tomasi – Elisabetta Lorenzetti): 250 firme in 1 settiman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Nessuna rispos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zione del 22 aprile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va N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so di fi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zioni proposte dal MIUR contengono errori anche g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Corriere della s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piega Anna Brancaccio,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dirigente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el Miur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(preside comandata MIUR)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: «Rispetto alla vecchia prova, in cui ai ragazzi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veniva data una funzion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e loro dovevano solo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alcolarne il risultat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, qui si dice loro: data questa situazione problematica trovate voi la soluzione, il modello matematico, l’equazione più adatta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etro queste 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zion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» - spiega ancora Brancaccio - «è in gioco una nuova didattica della matematica incentrata non più solo sulle conoscenze ma anc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lle competenze intese come quello che uno sa fare con quello che s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»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96360" y="5589720"/>
            <a:ext cx="1008000" cy="934920"/>
          </a:xfrm>
          <a:custGeom>
            <a:avLst/>
            <a:gdLst>
              <a:gd name="textAreaLeft" fmla="*/ 60480 w 1008000"/>
              <a:gd name="textAreaRight" fmla="*/ 947520 w 1008000"/>
              <a:gd name="textAreaTop" fmla="*/ 60480 h 934920"/>
              <a:gd name="textAreaBottom" fmla="*/ 874440 h 934920"/>
            </a:gdLst>
            <a:ahLst/>
            <a:rect l="textAreaLeft" t="textAreaTop" r="textAreaRight" b="textAreaBottom"/>
            <a:pathLst>
              <a:path w="23288" h="21600">
                <a:moveTo>
                  <a:pt x="0" y="0"/>
                </a:moveTo>
                <a:lnTo>
                  <a:pt x="23288" y="0"/>
                </a:lnTo>
                <a:lnTo>
                  <a:pt x="23288" y="21600"/>
                </a:lnTo>
                <a:lnTo>
                  <a:pt x="0" y="21600"/>
                </a:lnTo>
                <a:close/>
              </a:path>
              <a:path fill="lightenLess" w="23288" h="21600">
                <a:moveTo>
                  <a:pt x="0" y="0"/>
                </a:moveTo>
                <a:lnTo>
                  <a:pt x="23288" y="0"/>
                </a:lnTo>
                <a:lnTo>
                  <a:pt x="21888" y="1400"/>
                </a:lnTo>
                <a:lnTo>
                  <a:pt x="1400" y="1400"/>
                </a:lnTo>
                <a:close/>
              </a:path>
              <a:path fill="darken" w="23288" h="21600">
                <a:moveTo>
                  <a:pt x="23288" y="0"/>
                </a:moveTo>
                <a:lnTo>
                  <a:pt x="23288" y="21600"/>
                </a:lnTo>
                <a:lnTo>
                  <a:pt x="21888" y="20200"/>
                </a:lnTo>
                <a:lnTo>
                  <a:pt x="21888" y="1400"/>
                </a:lnTo>
                <a:close/>
              </a:path>
              <a:path fill="darkenLess" w="23288" h="21600">
                <a:moveTo>
                  <a:pt x="232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88" y="20200"/>
                </a:lnTo>
                <a:close/>
              </a:path>
              <a:path fill="lighten" w="232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3288" h="21600">
                <a:moveTo>
                  <a:pt x="6117" y="3985"/>
                </a:moveTo>
                <a:lnTo>
                  <a:pt x="13115" y="3985"/>
                </a:lnTo>
                <a:lnTo>
                  <a:pt x="17171" y="7484"/>
                </a:lnTo>
                <a:lnTo>
                  <a:pt x="17171" y="17615"/>
                </a:lnTo>
                <a:lnTo>
                  <a:pt x="6117" y="17615"/>
                </a:lnTo>
                <a:close/>
              </a:path>
              <a:path fill="darken" w="23288" h="21600">
                <a:moveTo>
                  <a:pt x="13115" y="3985"/>
                </a:moveTo>
                <a:lnTo>
                  <a:pt x="17171" y="7484"/>
                </a:lnTo>
                <a:lnTo>
                  <a:pt x="13115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4360" y="49320"/>
            <a:ext cx="7956360" cy="6808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39640" y="836640"/>
            <a:ext cx="38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ventiamo” qualche cosa di nuovo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i di Stat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problemi, il secondo in linea con quanto precedentemente assegnato e 10 quesi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lema 1: piano tariffario telefo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rrisolvibile proprio perché si doveva fare riferimento ad una situazione reale e quindi discreta (successioni e non funzioni continue … vengono a cadere tutte le richieste relative alla continuità – derivabilità etc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92360" y="5921280"/>
            <a:ext cx="1655640" cy="936720"/>
          </a:xfrm>
          <a:custGeom>
            <a:avLst/>
            <a:gdLst>
              <a:gd name="textAreaLeft" fmla="*/ 60480 w 1655640"/>
              <a:gd name="textAreaRight" fmla="*/ 1595160 w 165564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8171" h="21600">
                <a:moveTo>
                  <a:pt x="0" y="0"/>
                </a:moveTo>
                <a:lnTo>
                  <a:pt x="38171" y="0"/>
                </a:lnTo>
                <a:lnTo>
                  <a:pt x="38171" y="21600"/>
                </a:lnTo>
                <a:lnTo>
                  <a:pt x="0" y="21600"/>
                </a:lnTo>
                <a:close/>
              </a:path>
              <a:path fill="lightenLess" w="38171" h="21600">
                <a:moveTo>
                  <a:pt x="0" y="0"/>
                </a:moveTo>
                <a:lnTo>
                  <a:pt x="38171" y="0"/>
                </a:lnTo>
                <a:lnTo>
                  <a:pt x="36771" y="1400"/>
                </a:lnTo>
                <a:lnTo>
                  <a:pt x="1400" y="1400"/>
                </a:lnTo>
                <a:close/>
              </a:path>
              <a:path fill="darken" w="38171" h="21600">
                <a:moveTo>
                  <a:pt x="38171" y="0"/>
                </a:moveTo>
                <a:lnTo>
                  <a:pt x="38171" y="21600"/>
                </a:lnTo>
                <a:lnTo>
                  <a:pt x="36771" y="20200"/>
                </a:lnTo>
                <a:lnTo>
                  <a:pt x="36771" y="1400"/>
                </a:lnTo>
                <a:close/>
              </a:path>
              <a:path fill="darkenLess" w="38171" h="21600">
                <a:moveTo>
                  <a:pt x="38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771" y="20200"/>
                </a:lnTo>
                <a:close/>
              </a:path>
              <a:path fill="lighten" w="38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8171" h="21600">
                <a:moveTo>
                  <a:pt x="13559" y="3985"/>
                </a:moveTo>
                <a:lnTo>
                  <a:pt x="20557" y="3985"/>
                </a:lnTo>
                <a:lnTo>
                  <a:pt x="24613" y="7484"/>
                </a:lnTo>
                <a:lnTo>
                  <a:pt x="24613" y="17615"/>
                </a:lnTo>
                <a:lnTo>
                  <a:pt x="13559" y="17615"/>
                </a:lnTo>
                <a:close/>
              </a:path>
              <a:path fill="darken" w="38171" h="21600">
                <a:moveTo>
                  <a:pt x="20557" y="3985"/>
                </a:moveTo>
                <a:lnTo>
                  <a:pt x="24613" y="7484"/>
                </a:lnTo>
                <a:lnTo>
                  <a:pt x="20557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948360" y="5805360"/>
            <a:ext cx="1656000" cy="1052640"/>
          </a:xfrm>
          <a:custGeom>
            <a:avLst/>
            <a:gdLst>
              <a:gd name="textAreaLeft" fmla="*/ 68040 w 1656000"/>
              <a:gd name="textAreaRight" fmla="*/ 1587960 w 165600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33977" h="21600">
                <a:moveTo>
                  <a:pt x="0" y="0"/>
                </a:moveTo>
                <a:lnTo>
                  <a:pt x="33977" y="0"/>
                </a:lnTo>
                <a:lnTo>
                  <a:pt x="33977" y="21600"/>
                </a:lnTo>
                <a:lnTo>
                  <a:pt x="0" y="21600"/>
                </a:lnTo>
                <a:close/>
              </a:path>
              <a:path fill="lightenLess" w="33977" h="21600">
                <a:moveTo>
                  <a:pt x="0" y="0"/>
                </a:moveTo>
                <a:lnTo>
                  <a:pt x="33977" y="0"/>
                </a:lnTo>
                <a:lnTo>
                  <a:pt x="32577" y="1400"/>
                </a:lnTo>
                <a:lnTo>
                  <a:pt x="1400" y="1400"/>
                </a:lnTo>
                <a:close/>
              </a:path>
              <a:path fill="darken" w="33977" h="21600">
                <a:moveTo>
                  <a:pt x="33977" y="0"/>
                </a:moveTo>
                <a:lnTo>
                  <a:pt x="33977" y="21600"/>
                </a:lnTo>
                <a:lnTo>
                  <a:pt x="32577" y="20200"/>
                </a:lnTo>
                <a:lnTo>
                  <a:pt x="32577" y="1400"/>
                </a:lnTo>
                <a:close/>
              </a:path>
              <a:path fill="darkenLess" w="33977" h="21600">
                <a:moveTo>
                  <a:pt x="33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77" y="20200"/>
                </a:lnTo>
                <a:close/>
              </a:path>
              <a:path fill="lighten" w="33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3977" h="21600">
                <a:moveTo>
                  <a:pt x="11461" y="3985"/>
                </a:moveTo>
                <a:lnTo>
                  <a:pt x="18459" y="3985"/>
                </a:lnTo>
                <a:lnTo>
                  <a:pt x="22515" y="7484"/>
                </a:lnTo>
                <a:lnTo>
                  <a:pt x="22515" y="17615"/>
                </a:lnTo>
                <a:lnTo>
                  <a:pt x="11461" y="17615"/>
                </a:lnTo>
                <a:close/>
              </a:path>
              <a:path fill="darken" w="33977" h="21600">
                <a:moveTo>
                  <a:pt x="18459" y="3985"/>
                </a:moveTo>
                <a:lnTo>
                  <a:pt x="22515" y="7484"/>
                </a:lnTo>
                <a:lnTo>
                  <a:pt x="18459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55640" y="6165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84720" y="595008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692360" y="5921280"/>
            <a:ext cx="1655640" cy="936720"/>
          </a:xfrm>
          <a:custGeom>
            <a:avLst/>
            <a:gdLst>
              <a:gd name="textAreaLeft" fmla="*/ 60480 w 1655640"/>
              <a:gd name="textAreaRight" fmla="*/ 1595160 w 165564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8171" h="21600">
                <a:moveTo>
                  <a:pt x="0" y="0"/>
                </a:moveTo>
                <a:lnTo>
                  <a:pt x="38171" y="0"/>
                </a:lnTo>
                <a:lnTo>
                  <a:pt x="38171" y="21600"/>
                </a:lnTo>
                <a:lnTo>
                  <a:pt x="0" y="21600"/>
                </a:lnTo>
                <a:close/>
              </a:path>
              <a:path fill="lightenLess" w="38171" h="21600">
                <a:moveTo>
                  <a:pt x="0" y="0"/>
                </a:moveTo>
                <a:lnTo>
                  <a:pt x="38171" y="0"/>
                </a:lnTo>
                <a:lnTo>
                  <a:pt x="36771" y="1400"/>
                </a:lnTo>
                <a:lnTo>
                  <a:pt x="1400" y="1400"/>
                </a:lnTo>
                <a:close/>
              </a:path>
              <a:path fill="darken" w="38171" h="21600">
                <a:moveTo>
                  <a:pt x="38171" y="0"/>
                </a:moveTo>
                <a:lnTo>
                  <a:pt x="38171" y="21600"/>
                </a:lnTo>
                <a:lnTo>
                  <a:pt x="36771" y="20200"/>
                </a:lnTo>
                <a:lnTo>
                  <a:pt x="36771" y="1400"/>
                </a:lnTo>
                <a:close/>
              </a:path>
              <a:path fill="darkenLess" w="38171" h="21600">
                <a:moveTo>
                  <a:pt x="38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771" y="20200"/>
                </a:lnTo>
                <a:close/>
              </a:path>
              <a:path fill="lighten" w="38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8171" h="21600">
                <a:moveTo>
                  <a:pt x="13559" y="3985"/>
                </a:moveTo>
                <a:lnTo>
                  <a:pt x="20557" y="3985"/>
                </a:lnTo>
                <a:lnTo>
                  <a:pt x="24613" y="7484"/>
                </a:lnTo>
                <a:lnTo>
                  <a:pt x="24613" y="17615"/>
                </a:lnTo>
                <a:lnTo>
                  <a:pt x="13559" y="17615"/>
                </a:lnTo>
                <a:close/>
              </a:path>
              <a:path fill="darken" w="38171" h="21600">
                <a:moveTo>
                  <a:pt x="20557" y="3985"/>
                </a:moveTo>
                <a:lnTo>
                  <a:pt x="24613" y="7484"/>
                </a:lnTo>
                <a:lnTo>
                  <a:pt x="20557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5640" y="6165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5805360"/>
            <a:ext cx="1656000" cy="1052640"/>
          </a:xfrm>
          <a:custGeom>
            <a:avLst/>
            <a:gdLst>
              <a:gd name="textAreaLeft" fmla="*/ 68040 w 1656000"/>
              <a:gd name="textAreaRight" fmla="*/ 1587960 w 165600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33977" h="21600">
                <a:moveTo>
                  <a:pt x="0" y="0"/>
                </a:moveTo>
                <a:lnTo>
                  <a:pt x="33977" y="0"/>
                </a:lnTo>
                <a:lnTo>
                  <a:pt x="33977" y="21600"/>
                </a:lnTo>
                <a:lnTo>
                  <a:pt x="0" y="21600"/>
                </a:lnTo>
                <a:close/>
              </a:path>
              <a:path fill="lightenLess" w="33977" h="21600">
                <a:moveTo>
                  <a:pt x="0" y="0"/>
                </a:moveTo>
                <a:lnTo>
                  <a:pt x="33977" y="0"/>
                </a:lnTo>
                <a:lnTo>
                  <a:pt x="32577" y="1400"/>
                </a:lnTo>
                <a:lnTo>
                  <a:pt x="1400" y="1400"/>
                </a:lnTo>
                <a:close/>
              </a:path>
              <a:path fill="darken" w="33977" h="21600">
                <a:moveTo>
                  <a:pt x="33977" y="0"/>
                </a:moveTo>
                <a:lnTo>
                  <a:pt x="33977" y="21600"/>
                </a:lnTo>
                <a:lnTo>
                  <a:pt x="32577" y="20200"/>
                </a:lnTo>
                <a:lnTo>
                  <a:pt x="32577" y="1400"/>
                </a:lnTo>
                <a:close/>
              </a:path>
              <a:path fill="darkenLess" w="33977" h="21600">
                <a:moveTo>
                  <a:pt x="33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77" y="20200"/>
                </a:lnTo>
                <a:close/>
              </a:path>
              <a:path fill="lighten" w="33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3977" h="21600">
                <a:moveTo>
                  <a:pt x="11461" y="3985"/>
                </a:moveTo>
                <a:lnTo>
                  <a:pt x="18459" y="3985"/>
                </a:lnTo>
                <a:lnTo>
                  <a:pt x="22515" y="7484"/>
                </a:lnTo>
                <a:lnTo>
                  <a:pt x="22515" y="17615"/>
                </a:lnTo>
                <a:lnTo>
                  <a:pt x="11461" y="17615"/>
                </a:lnTo>
                <a:close/>
              </a:path>
              <a:path fill="darken" w="33977" h="21600">
                <a:moveTo>
                  <a:pt x="18459" y="3985"/>
                </a:moveTo>
                <a:lnTo>
                  <a:pt x="22515" y="7484"/>
                </a:lnTo>
                <a:lnTo>
                  <a:pt x="18459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84720" y="595008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92360" y="5921280"/>
            <a:ext cx="1655640" cy="936720"/>
          </a:xfrm>
          <a:custGeom>
            <a:avLst/>
            <a:gdLst>
              <a:gd name="textAreaLeft" fmla="*/ 60480 w 1655640"/>
              <a:gd name="textAreaRight" fmla="*/ 1595160 w 165564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8171" h="21600">
                <a:moveTo>
                  <a:pt x="0" y="0"/>
                </a:moveTo>
                <a:lnTo>
                  <a:pt x="38171" y="0"/>
                </a:lnTo>
                <a:lnTo>
                  <a:pt x="38171" y="21600"/>
                </a:lnTo>
                <a:lnTo>
                  <a:pt x="0" y="21600"/>
                </a:lnTo>
                <a:close/>
              </a:path>
              <a:path fill="lightenLess" w="38171" h="21600">
                <a:moveTo>
                  <a:pt x="0" y="0"/>
                </a:moveTo>
                <a:lnTo>
                  <a:pt x="38171" y="0"/>
                </a:lnTo>
                <a:lnTo>
                  <a:pt x="36771" y="1400"/>
                </a:lnTo>
                <a:lnTo>
                  <a:pt x="1400" y="1400"/>
                </a:lnTo>
                <a:close/>
              </a:path>
              <a:path fill="darken" w="38171" h="21600">
                <a:moveTo>
                  <a:pt x="38171" y="0"/>
                </a:moveTo>
                <a:lnTo>
                  <a:pt x="38171" y="21600"/>
                </a:lnTo>
                <a:lnTo>
                  <a:pt x="36771" y="20200"/>
                </a:lnTo>
                <a:lnTo>
                  <a:pt x="36771" y="1400"/>
                </a:lnTo>
                <a:close/>
              </a:path>
              <a:path fill="darkenLess" w="38171" h="21600">
                <a:moveTo>
                  <a:pt x="38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771" y="20200"/>
                </a:lnTo>
                <a:close/>
              </a:path>
              <a:path fill="lighten" w="38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8171" h="21600">
                <a:moveTo>
                  <a:pt x="13559" y="3985"/>
                </a:moveTo>
                <a:lnTo>
                  <a:pt x="20557" y="3985"/>
                </a:lnTo>
                <a:lnTo>
                  <a:pt x="24613" y="7484"/>
                </a:lnTo>
                <a:lnTo>
                  <a:pt x="24613" y="17615"/>
                </a:lnTo>
                <a:lnTo>
                  <a:pt x="13559" y="17615"/>
                </a:lnTo>
                <a:close/>
              </a:path>
              <a:path fill="darken" w="38171" h="21600">
                <a:moveTo>
                  <a:pt x="20557" y="3985"/>
                </a:moveTo>
                <a:lnTo>
                  <a:pt x="24613" y="7484"/>
                </a:lnTo>
                <a:lnTo>
                  <a:pt x="20557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55640" y="6165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948360" y="5805360"/>
            <a:ext cx="1656000" cy="1052640"/>
          </a:xfrm>
          <a:custGeom>
            <a:avLst/>
            <a:gdLst>
              <a:gd name="textAreaLeft" fmla="*/ 68040 w 1656000"/>
              <a:gd name="textAreaRight" fmla="*/ 1587960 w 165600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33977" h="21600">
                <a:moveTo>
                  <a:pt x="0" y="0"/>
                </a:moveTo>
                <a:lnTo>
                  <a:pt x="33977" y="0"/>
                </a:lnTo>
                <a:lnTo>
                  <a:pt x="33977" y="21600"/>
                </a:lnTo>
                <a:lnTo>
                  <a:pt x="0" y="21600"/>
                </a:lnTo>
                <a:close/>
              </a:path>
              <a:path fill="lightenLess" w="33977" h="21600">
                <a:moveTo>
                  <a:pt x="0" y="0"/>
                </a:moveTo>
                <a:lnTo>
                  <a:pt x="33977" y="0"/>
                </a:lnTo>
                <a:lnTo>
                  <a:pt x="32577" y="1400"/>
                </a:lnTo>
                <a:lnTo>
                  <a:pt x="1400" y="1400"/>
                </a:lnTo>
                <a:close/>
              </a:path>
              <a:path fill="darken" w="33977" h="21600">
                <a:moveTo>
                  <a:pt x="33977" y="0"/>
                </a:moveTo>
                <a:lnTo>
                  <a:pt x="33977" y="21600"/>
                </a:lnTo>
                <a:lnTo>
                  <a:pt x="32577" y="20200"/>
                </a:lnTo>
                <a:lnTo>
                  <a:pt x="32577" y="1400"/>
                </a:lnTo>
                <a:close/>
              </a:path>
              <a:path fill="darkenLess" w="33977" h="21600">
                <a:moveTo>
                  <a:pt x="33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77" y="20200"/>
                </a:lnTo>
                <a:close/>
              </a:path>
              <a:path fill="lighten" w="33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3977" h="21600">
                <a:moveTo>
                  <a:pt x="11461" y="3985"/>
                </a:moveTo>
                <a:lnTo>
                  <a:pt x="18459" y="3985"/>
                </a:lnTo>
                <a:lnTo>
                  <a:pt x="22515" y="7484"/>
                </a:lnTo>
                <a:lnTo>
                  <a:pt x="22515" y="17615"/>
                </a:lnTo>
                <a:lnTo>
                  <a:pt x="11461" y="17615"/>
                </a:lnTo>
                <a:close/>
              </a:path>
              <a:path fill="darken" w="33977" h="21600">
                <a:moveTo>
                  <a:pt x="18459" y="3985"/>
                </a:moveTo>
                <a:lnTo>
                  <a:pt x="22515" y="7484"/>
                </a:lnTo>
                <a:lnTo>
                  <a:pt x="18459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84720" y="595008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755640" y="5921280"/>
            <a:ext cx="2592360" cy="936720"/>
            <a:chOff x="755640" y="5921280"/>
            <a:chExt cx="2592360" cy="936720"/>
          </a:xfrm>
        </p:grpSpPr>
        <p:sp>
          <p:nvSpPr>
            <p:cNvPr id="86" name=""/>
            <p:cNvSpPr/>
            <p:nvPr/>
          </p:nvSpPr>
          <p:spPr>
            <a:xfrm>
              <a:off x="1692360" y="5921280"/>
              <a:ext cx="1655640" cy="936720"/>
            </a:xfrm>
            <a:custGeom>
              <a:avLst/>
              <a:gdLst>
                <a:gd name="textAreaLeft" fmla="*/ 60480 w 1655640"/>
                <a:gd name="textAreaRight" fmla="*/ 1595160 w 1655640"/>
                <a:gd name="textAreaTop" fmla="*/ 60480 h 936720"/>
                <a:gd name="textAreaBottom" fmla="*/ 876240 h 936720"/>
              </a:gdLst>
              <a:ahLst/>
              <a:rect l="textAreaLeft" t="textAreaTop" r="textAreaRight" b="textAreaBottom"/>
              <a:pathLst>
                <a:path w="38171" h="21600">
                  <a:moveTo>
                    <a:pt x="0" y="0"/>
                  </a:moveTo>
                  <a:lnTo>
                    <a:pt x="38171" y="0"/>
                  </a:lnTo>
                  <a:lnTo>
                    <a:pt x="38171" y="21600"/>
                  </a:lnTo>
                  <a:lnTo>
                    <a:pt x="0" y="21600"/>
                  </a:lnTo>
                  <a:close/>
                </a:path>
                <a:path fill="lightenLess" w="38171" h="21600">
                  <a:moveTo>
                    <a:pt x="0" y="0"/>
                  </a:moveTo>
                  <a:lnTo>
                    <a:pt x="38171" y="0"/>
                  </a:lnTo>
                  <a:lnTo>
                    <a:pt x="36771" y="1400"/>
                  </a:lnTo>
                  <a:lnTo>
                    <a:pt x="1400" y="1400"/>
                  </a:lnTo>
                  <a:close/>
                </a:path>
                <a:path fill="darken" w="38171" h="21600">
                  <a:moveTo>
                    <a:pt x="38171" y="0"/>
                  </a:moveTo>
                  <a:lnTo>
                    <a:pt x="38171" y="21600"/>
                  </a:lnTo>
                  <a:lnTo>
                    <a:pt x="36771" y="20200"/>
                  </a:lnTo>
                  <a:lnTo>
                    <a:pt x="36771" y="1400"/>
                  </a:lnTo>
                  <a:close/>
                </a:path>
                <a:path fill="darkenLess" w="38171" h="21600">
                  <a:moveTo>
                    <a:pt x="3817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6771" y="20200"/>
                  </a:lnTo>
                  <a:close/>
                </a:path>
                <a:path fill="lighten" w="3817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Less" w="38171" h="21600">
                  <a:moveTo>
                    <a:pt x="13559" y="3985"/>
                  </a:moveTo>
                  <a:lnTo>
                    <a:pt x="20557" y="3985"/>
                  </a:lnTo>
                  <a:lnTo>
                    <a:pt x="24613" y="7484"/>
                  </a:lnTo>
                  <a:lnTo>
                    <a:pt x="24613" y="17615"/>
                  </a:lnTo>
                  <a:lnTo>
                    <a:pt x="13559" y="17615"/>
                  </a:lnTo>
                  <a:close/>
                </a:path>
                <a:path fill="darken" w="38171" h="21600">
                  <a:moveTo>
                    <a:pt x="20557" y="3985"/>
                  </a:moveTo>
                  <a:lnTo>
                    <a:pt x="24613" y="7484"/>
                  </a:lnTo>
                  <a:lnTo>
                    <a:pt x="20557" y="7484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640" y="616572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s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6084720" y="5805360"/>
            <a:ext cx="2519640" cy="1052640"/>
            <a:chOff x="6084720" y="5805360"/>
            <a:chExt cx="2519640" cy="1052640"/>
          </a:xfrm>
        </p:grpSpPr>
        <p:sp>
          <p:nvSpPr>
            <p:cNvPr id="89" name=""/>
            <p:cNvSpPr/>
            <p:nvPr/>
          </p:nvSpPr>
          <p:spPr>
            <a:xfrm>
              <a:off x="6948360" y="5805360"/>
              <a:ext cx="1656000" cy="1052640"/>
            </a:xfrm>
            <a:custGeom>
              <a:avLst/>
              <a:gdLst>
                <a:gd name="textAreaLeft" fmla="*/ 68040 w 1656000"/>
                <a:gd name="textAreaRight" fmla="*/ 1587960 w 1656000"/>
                <a:gd name="textAreaTop" fmla="*/ 68040 h 1052640"/>
                <a:gd name="textAreaBottom" fmla="*/ 984600 h 1052640"/>
              </a:gdLst>
              <a:ahLst/>
              <a:rect l="textAreaLeft" t="textAreaTop" r="textAreaRight" b="textAreaBottom"/>
              <a:pathLst>
                <a:path w="33977" h="21600">
                  <a:moveTo>
                    <a:pt x="0" y="0"/>
                  </a:moveTo>
                  <a:lnTo>
                    <a:pt x="33977" y="0"/>
                  </a:lnTo>
                  <a:lnTo>
                    <a:pt x="33977" y="21600"/>
                  </a:lnTo>
                  <a:lnTo>
                    <a:pt x="0" y="21600"/>
                  </a:lnTo>
                  <a:close/>
                </a:path>
                <a:path fill="lightenLess" w="33977" h="21600">
                  <a:moveTo>
                    <a:pt x="0" y="0"/>
                  </a:moveTo>
                  <a:lnTo>
                    <a:pt x="33977" y="0"/>
                  </a:lnTo>
                  <a:lnTo>
                    <a:pt x="32577" y="1400"/>
                  </a:lnTo>
                  <a:lnTo>
                    <a:pt x="1400" y="1400"/>
                  </a:lnTo>
                  <a:close/>
                </a:path>
                <a:path fill="darken" w="33977" h="21600">
                  <a:moveTo>
                    <a:pt x="33977" y="0"/>
                  </a:moveTo>
                  <a:lnTo>
                    <a:pt x="33977" y="21600"/>
                  </a:lnTo>
                  <a:lnTo>
                    <a:pt x="32577" y="20200"/>
                  </a:lnTo>
                  <a:lnTo>
                    <a:pt x="32577" y="1400"/>
                  </a:lnTo>
                  <a:close/>
                </a:path>
                <a:path fill="darkenLess" w="33977" h="21600">
                  <a:moveTo>
                    <a:pt x="3397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2577" y="20200"/>
                  </a:lnTo>
                  <a:close/>
                </a:path>
                <a:path fill="lighten" w="3397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Less" w="33977" h="21600">
                  <a:moveTo>
                    <a:pt x="11461" y="3985"/>
                  </a:moveTo>
                  <a:lnTo>
                    <a:pt x="18459" y="3985"/>
                  </a:lnTo>
                  <a:lnTo>
                    <a:pt x="22515" y="7484"/>
                  </a:lnTo>
                  <a:lnTo>
                    <a:pt x="22515" y="17615"/>
                  </a:lnTo>
                  <a:lnTo>
                    <a:pt x="11461" y="17615"/>
                  </a:lnTo>
                  <a:close/>
                </a:path>
                <a:path fill="darken" w="33977" h="21600">
                  <a:moveTo>
                    <a:pt x="18459" y="3985"/>
                  </a:moveTo>
                  <a:lnTo>
                    <a:pt x="22515" y="7484"/>
                  </a:lnTo>
                  <a:lnTo>
                    <a:pt x="18459" y="7484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084720" y="5950080"/>
              <a:ext cx="100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blema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i di Stat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ontestualizz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Abolizione dell’indagine Matmedia (attiva dal 200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i di Stat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 problemi, il secondo in linea con quanto precedentemente assegnato e 10 quesit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227640" y="5084640"/>
            <a:ext cx="1476360" cy="908280"/>
          </a:xfrm>
          <a:custGeom>
            <a:avLst/>
            <a:gdLst>
              <a:gd name="textAreaLeft" fmla="*/ 58680 w 1476360"/>
              <a:gd name="textAreaRight" fmla="*/ 1417680 w 1476360"/>
              <a:gd name="textAreaTop" fmla="*/ 58680 h 908280"/>
              <a:gd name="textAreaBottom" fmla="*/ 849600 h 908280"/>
            </a:gdLst>
            <a:ahLst/>
            <a:rect l="textAreaLeft" t="textAreaTop" r="textAreaRight" b="textAreaBottom"/>
            <a:pathLst>
              <a:path w="35104" h="21600">
                <a:moveTo>
                  <a:pt x="0" y="0"/>
                </a:moveTo>
                <a:lnTo>
                  <a:pt x="35104" y="0"/>
                </a:lnTo>
                <a:lnTo>
                  <a:pt x="35104" y="21600"/>
                </a:lnTo>
                <a:lnTo>
                  <a:pt x="0" y="21600"/>
                </a:lnTo>
                <a:close/>
              </a:path>
              <a:path fill="lightenLess" w="35104" h="21600">
                <a:moveTo>
                  <a:pt x="0" y="0"/>
                </a:moveTo>
                <a:lnTo>
                  <a:pt x="35104" y="0"/>
                </a:lnTo>
                <a:lnTo>
                  <a:pt x="33704" y="1400"/>
                </a:lnTo>
                <a:lnTo>
                  <a:pt x="1400" y="1400"/>
                </a:lnTo>
                <a:close/>
              </a:path>
              <a:path fill="darken" w="35104" h="21600">
                <a:moveTo>
                  <a:pt x="35104" y="0"/>
                </a:moveTo>
                <a:lnTo>
                  <a:pt x="35104" y="21600"/>
                </a:lnTo>
                <a:lnTo>
                  <a:pt x="33704" y="20200"/>
                </a:lnTo>
                <a:lnTo>
                  <a:pt x="33704" y="1400"/>
                </a:lnTo>
                <a:close/>
              </a:path>
              <a:path fill="darkenLess" w="35104" h="21600">
                <a:moveTo>
                  <a:pt x="351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4" y="20200"/>
                </a:lnTo>
                <a:close/>
              </a:path>
              <a:path fill="lighten" w="351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5104" h="21600">
                <a:moveTo>
                  <a:pt x="12025" y="3985"/>
                </a:moveTo>
                <a:lnTo>
                  <a:pt x="19023" y="3985"/>
                </a:lnTo>
                <a:lnTo>
                  <a:pt x="23079" y="7484"/>
                </a:lnTo>
                <a:lnTo>
                  <a:pt x="23079" y="17615"/>
                </a:lnTo>
                <a:lnTo>
                  <a:pt x="12025" y="17615"/>
                </a:lnTo>
                <a:close/>
              </a:path>
              <a:path fill="darken" w="35104" h="21600">
                <a:moveTo>
                  <a:pt x="19023" y="3985"/>
                </a:moveTo>
                <a:lnTo>
                  <a:pt x="23079" y="7484"/>
                </a:lnTo>
                <a:lnTo>
                  <a:pt x="19023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i di Stat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blema 1: piano tariffario telefon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rrisolvibile proprio perché si doveva fare riferimento ad una situazione reale e quindi discreta (successioni e non funzioni continue … vengono a cadere tutte le richieste relative alla continuità – derivabilità etc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164360" y="5084640"/>
            <a:ext cx="1511280" cy="1224000"/>
          </a:xfrm>
          <a:custGeom>
            <a:avLst/>
            <a:gdLst>
              <a:gd name="textAreaLeft" fmla="*/ 79200 w 1511280"/>
              <a:gd name="textAreaRight" fmla="*/ 1432080 w 151128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26668" h="21600">
                <a:moveTo>
                  <a:pt x="0" y="0"/>
                </a:moveTo>
                <a:lnTo>
                  <a:pt x="26668" y="0"/>
                </a:lnTo>
                <a:lnTo>
                  <a:pt x="26668" y="21600"/>
                </a:lnTo>
                <a:lnTo>
                  <a:pt x="0" y="21600"/>
                </a:lnTo>
                <a:close/>
              </a:path>
              <a:path fill="lightenLess" w="26668" h="21600">
                <a:moveTo>
                  <a:pt x="0" y="0"/>
                </a:moveTo>
                <a:lnTo>
                  <a:pt x="26668" y="0"/>
                </a:lnTo>
                <a:lnTo>
                  <a:pt x="25268" y="1400"/>
                </a:lnTo>
                <a:lnTo>
                  <a:pt x="1400" y="1400"/>
                </a:lnTo>
                <a:close/>
              </a:path>
              <a:path fill="darken" w="26668" h="21600">
                <a:moveTo>
                  <a:pt x="26668" y="0"/>
                </a:moveTo>
                <a:lnTo>
                  <a:pt x="26668" y="21600"/>
                </a:lnTo>
                <a:lnTo>
                  <a:pt x="25268" y="20200"/>
                </a:lnTo>
                <a:lnTo>
                  <a:pt x="25268" y="1400"/>
                </a:lnTo>
                <a:close/>
              </a:path>
              <a:path fill="darkenLess" w="26668" h="21600">
                <a:moveTo>
                  <a:pt x="266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268" y="20200"/>
                </a:lnTo>
                <a:close/>
              </a:path>
              <a:path fill="lighten" w="266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6668" h="21600">
                <a:moveTo>
                  <a:pt x="7807" y="3985"/>
                </a:moveTo>
                <a:lnTo>
                  <a:pt x="14805" y="3985"/>
                </a:lnTo>
                <a:lnTo>
                  <a:pt x="18861" y="7484"/>
                </a:lnTo>
                <a:lnTo>
                  <a:pt x="18861" y="17615"/>
                </a:lnTo>
                <a:lnTo>
                  <a:pt x="7807" y="17615"/>
                </a:lnTo>
                <a:close/>
              </a:path>
              <a:path fill="darken" w="26668" h="21600">
                <a:moveTo>
                  <a:pt x="14805" y="3985"/>
                </a:moveTo>
                <a:lnTo>
                  <a:pt x="18861" y="7484"/>
                </a:lnTo>
                <a:lnTo>
                  <a:pt x="14805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o scolastico 2015 - 20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a aspettarc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5040360" cy="6453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7480" y="496800"/>
            <a:ext cx="1892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ESAME DI MATEMA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ulazione del 10 dicembre 20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porta scarpe da viagg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ghiac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a Ministeriale del 23/11/2015 simulazione del 10 dicembre 2015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a prova è strutturata in due problemi, a scelta alternativa dello studente, e in dieci quesiti, di cui lo studente dovrà svolgerne cinque; …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aranno assegnati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roblemi di tipo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ontestualizzato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n cui lo studente dovrà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ndividuare la strategia di soluzion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entre i quesiti verteranno su temi matematici di carattere generale”.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e prove contestualizzate sono un obbligo di leg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ti docenti chiedono se è vero che la prova d’esame contestualizzata o autentica sia un obbligo di legg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La risposta è no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 esiste alcun articolo di legge ove se ne par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6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sa significa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roblemi di tipo contestualizzato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in cui lo studente dovrà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ndividuare la strategia di soluzion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entre i quesiti verteranno su temi matematici di carattere generale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gni problema – quesito matematico richiede l’individuazione di una strategia risoluti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Cosa dicono le I.N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’esplicitazione dei nuclei fondanti e dei contenuti imprescindibili (sintetizzati nelle tavole di apprendiment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libertà di poter progettare percorsi scolastici innovativi e di qualità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nza imposizioni di metodi o di ricette didattic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Le Indicazioni non dettano alcun modello didattico-pedagogic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… valorizzare il ruolo dei docenti e delle autonomie scolastiche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nella loro libera progettazion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negare diritto di cittadinanza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, in questo delicatissimo ambito, </a:t>
            </a: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a qualunque tentativo di prescrittivismo</a:t>
            </a:r>
            <a:r>
              <a:rPr b="0" lang="it-IT" sz="32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libertà del docente dunque si esplica …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c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lla scelta delle strategie e delle metodologie più appropriate, la cui validità è testimoniata non dall’applicazione di qualsivoglia procedura, ma dal successo educativ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stualizz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lmente trovo positivo che il MIUR si muov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c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e non solo) nella direzione della contestualizzazione, per abituare gli studenti a confrontarsi con situazioni real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troppo le situazioni reali proposte nelle simulazioni e nell’esame di stato sono così poco adeguate e lontane da quello che si intende per "problemi contestualizzati", da risultare ridic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ile che non si riesca a produrre qualcosa di più significativo e meno irrealistico del problema di un ipotetico e poco realistico piano tariffario o di artigiano che deve realizzare un contenitore di scarp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I.N. e MI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ttembre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osta di una prova d’esame divisa in due par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a di quesiti obbligator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’altra di quesiti in cui è consentita una scel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rischio è che, continuando a proporre situazioni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"brutte in maniera imbarazzante”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(l’espressione calzante è del prof. Paolo Francini) e palesemente poco realistiche si svilisca il messaggio positivo che è contenuto nelle Indicazioni Nazionali che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promuovon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la conoscenza del concetto di modello matematico, ma non si limitano ad ess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sa significa contestualizza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ontestualizzare gli apprendimenti non significa necessariamente proiettarli su uno scenario (improbabile ) di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real lif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: basta collocarli in una situazi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mma Castelnuovo - Enr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Una riflessione su quanto sta accadendo la possiamo trovare sul sito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matmedi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nel quale l’ultima simulazione è stata riscritta in termini non contestualizza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 problemi scritti in forma tradizionale contengono esattamente gli stessi concetti matematici esplicitati dai problemi della simulazio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a di matematica non contiene niente che non sia presente nei problemi tradizionali; in essa in più ci solo elementi e storie inessenziali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’artigiano che disegna il profilo di una scato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e ragazzi che giocano al videogioch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tono confidenziale falsamente rassicurante: tutta una sceneggiata inutile e  mediocre che vorrebbe raffigurare una realtà  del tutto  improbabi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 sceneggiata  che vorremmo definire  ridicola ma che , per non essere offensivi, definiamo semplicemente pueri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È sciocca la contestualizzazione così intesa o forse non hanno capito niente di contestualizzazione quelli che così la intendon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5580000" y="5445000"/>
            <a:ext cx="3095640" cy="792360"/>
            <a:chOff x="5580000" y="5445000"/>
            <a:chExt cx="3095640" cy="792360"/>
          </a:xfrm>
        </p:grpSpPr>
        <p:sp>
          <p:nvSpPr>
            <p:cNvPr id="123" name=""/>
            <p:cNvSpPr/>
            <p:nvPr/>
          </p:nvSpPr>
          <p:spPr>
            <a:xfrm>
              <a:off x="7236000" y="5445000"/>
              <a:ext cx="1439640" cy="792360"/>
            </a:xfrm>
            <a:custGeom>
              <a:avLst/>
              <a:gdLst>
                <a:gd name="textAreaLeft" fmla="*/ 51120 w 1439640"/>
                <a:gd name="textAreaRight" fmla="*/ 1388520 w 1439640"/>
                <a:gd name="textAreaTop" fmla="*/ 51120 h 792360"/>
                <a:gd name="textAreaBottom" fmla="*/ 741240 h 792360"/>
              </a:gdLst>
              <a:ahLst/>
              <a:rect l="textAreaLeft" t="textAreaTop" r="textAreaRight" b="textAreaBottom"/>
              <a:pathLst>
                <a:path w="39237" h="21600">
                  <a:moveTo>
                    <a:pt x="0" y="0"/>
                  </a:moveTo>
                  <a:lnTo>
                    <a:pt x="39237" y="0"/>
                  </a:lnTo>
                  <a:lnTo>
                    <a:pt x="39237" y="21600"/>
                  </a:lnTo>
                  <a:lnTo>
                    <a:pt x="0" y="21600"/>
                  </a:lnTo>
                  <a:close/>
                </a:path>
                <a:path fill="lightenLess" w="39237" h="21600">
                  <a:moveTo>
                    <a:pt x="0" y="0"/>
                  </a:moveTo>
                  <a:lnTo>
                    <a:pt x="39237" y="0"/>
                  </a:lnTo>
                  <a:lnTo>
                    <a:pt x="37837" y="1400"/>
                  </a:lnTo>
                  <a:lnTo>
                    <a:pt x="1400" y="1400"/>
                  </a:lnTo>
                  <a:close/>
                </a:path>
                <a:path fill="darken" w="39237" h="21600">
                  <a:moveTo>
                    <a:pt x="39237" y="0"/>
                  </a:moveTo>
                  <a:lnTo>
                    <a:pt x="39237" y="21600"/>
                  </a:lnTo>
                  <a:lnTo>
                    <a:pt x="37837" y="20200"/>
                  </a:lnTo>
                  <a:lnTo>
                    <a:pt x="37837" y="1400"/>
                  </a:lnTo>
                  <a:close/>
                </a:path>
                <a:path fill="darkenLess" w="39237" h="21600">
                  <a:moveTo>
                    <a:pt x="3923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7837" y="20200"/>
                  </a:lnTo>
                  <a:close/>
                </a:path>
                <a:path fill="lighten" w="3923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Less" w="39237" h="21600">
                  <a:moveTo>
                    <a:pt x="14092" y="3985"/>
                  </a:moveTo>
                  <a:lnTo>
                    <a:pt x="21089" y="3985"/>
                  </a:lnTo>
                  <a:lnTo>
                    <a:pt x="25145" y="7484"/>
                  </a:lnTo>
                  <a:lnTo>
                    <a:pt x="25145" y="17615"/>
                  </a:lnTo>
                  <a:lnTo>
                    <a:pt x="14092" y="17615"/>
                  </a:lnTo>
                  <a:close/>
                </a:path>
                <a:path fill="darken" w="39237" h="21600">
                  <a:moveTo>
                    <a:pt x="21089" y="3985"/>
                  </a:moveTo>
                  <a:lnTo>
                    <a:pt x="25145" y="7484"/>
                  </a:lnTo>
                  <a:lnTo>
                    <a:pt x="21089" y="7484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80000" y="5589720"/>
              <a:ext cx="151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INLAND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042920" y="260280"/>
            <a:ext cx="6948720" cy="616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Hans Freudenthal (matematico del secolo scorso) faceva riferimento a due dimensioni ugualmente importanti nello sviluppo del pensiero matematic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quella orizzontale, attenta alle applicazion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 quella verticale, più portata verso l’astrazi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11280" y="549000"/>
            <a:ext cx="82296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Godfrey Harold Hardy (1877- 194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2011320" cy="23688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916360" y="1268280"/>
            <a:ext cx="532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a matematica, come creazione dello spirito, deve essere bella, profonda duratura. Se la matematica è utile … non è importante, deve essere bella in sè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5280" y="4365720"/>
            <a:ext cx="80643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on tutto deve avere uno scopo, non tutto deve essere utile, abbiamo anche bisogno di cose belle e profon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bbiamo quindi essere attenti a costruire ambienti di insegnamento fondati su un attento equilibrio delle due dimensioni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00000" y="404640"/>
            <a:ext cx="7489800" cy="619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I.N. e MI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Proposta incompatibile con le Indicazioni Nazionali che non prevedono una distinzione tra parti obbligatorie e parti non obbligator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disorientamento da parte dei docen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la poca conoscenza delle I.N. a livello di Ministero.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I.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'approfondimento degli aspetti tecnici, sebbene maggiore nel liceo scientifico che in altri licei, non perderà mai di vista l’obiettiv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lla comprensione in profondità degli aspetti concettuali della disciplin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mai completamente dimenticati nel nome di una presunta contestualizzazi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gli esami di stato dei precedenti anni, soprattutto dopo 2011, sono volutamente presen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iti teorici che richiedono considerazioni - deduzioni - argomentazioni sui concetti che gli studenti dovrebbero avere ampiamente acquisiti  e fatti propr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quesiti contestualizzati che fanno riferimento anche a situazioni culturalmente rilevanti nella storia della matematica e che costituiscono interessanti punti di riflessione e di approfondimento nell'attività didattic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tutto in linea con quanto richiesto dalle I.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96360" y="5229360"/>
            <a:ext cx="1223640" cy="1008000"/>
          </a:xfrm>
          <a:custGeom>
            <a:avLst/>
            <a:gdLst>
              <a:gd name="textAreaLeft" fmla="*/ 65160 w 1223640"/>
              <a:gd name="textAreaRight" fmla="*/ 1158480 w 122364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6219" h="21600">
                <a:moveTo>
                  <a:pt x="0" y="0"/>
                </a:moveTo>
                <a:lnTo>
                  <a:pt x="26219" y="0"/>
                </a:lnTo>
                <a:lnTo>
                  <a:pt x="26219" y="21600"/>
                </a:lnTo>
                <a:lnTo>
                  <a:pt x="0" y="21600"/>
                </a:lnTo>
                <a:close/>
              </a:path>
              <a:path fill="lightenLess" w="26219" h="21600">
                <a:moveTo>
                  <a:pt x="0" y="0"/>
                </a:moveTo>
                <a:lnTo>
                  <a:pt x="26219" y="0"/>
                </a:lnTo>
                <a:lnTo>
                  <a:pt x="24819" y="1400"/>
                </a:lnTo>
                <a:lnTo>
                  <a:pt x="1400" y="1400"/>
                </a:lnTo>
                <a:close/>
              </a:path>
              <a:path fill="darken" w="26219" h="21600">
                <a:moveTo>
                  <a:pt x="26219" y="0"/>
                </a:moveTo>
                <a:lnTo>
                  <a:pt x="26219" y="21600"/>
                </a:lnTo>
                <a:lnTo>
                  <a:pt x="24819" y="20200"/>
                </a:lnTo>
                <a:lnTo>
                  <a:pt x="24819" y="1400"/>
                </a:lnTo>
                <a:close/>
              </a:path>
              <a:path fill="darkenLess" w="26219" h="21600">
                <a:moveTo>
                  <a:pt x="262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19" y="20200"/>
                </a:lnTo>
                <a:close/>
              </a:path>
              <a:path fill="lighten" w="262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6219" h="21600">
                <a:moveTo>
                  <a:pt x="7583" y="3985"/>
                </a:moveTo>
                <a:lnTo>
                  <a:pt x="14581" y="3985"/>
                </a:lnTo>
                <a:lnTo>
                  <a:pt x="18636" y="7484"/>
                </a:lnTo>
                <a:lnTo>
                  <a:pt x="18636" y="17615"/>
                </a:lnTo>
                <a:lnTo>
                  <a:pt x="7583" y="17615"/>
                </a:lnTo>
                <a:close/>
              </a:path>
              <a:path fill="darken" w="26219" h="21600">
                <a:moveTo>
                  <a:pt x="14581" y="3985"/>
                </a:moveTo>
                <a:lnTo>
                  <a:pt x="18636" y="7484"/>
                </a:lnTo>
                <a:lnTo>
                  <a:pt x="1458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ando l’insegnamento ai soli problemi contestualizzati è lecito porsi le doman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 studenti prepareremo in futur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e sarà la loro preparazione in prospettiva del proseguimento negli studi universitar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sica simulazione 25 gennaio 20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1. Il metodo delle parabole di Thom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2. Uno strumento rinnov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e ne pensano gli studenti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l Corriere della se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e dovesse uscire fisica in seconda prova alla maturità io balzo», dice usando un linguaggio quasi aulico Laura B. su Twitt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«Raga, voglio piangere che simulazione di m... non ho mai fatto così schifo in fisica voglio morire davvero non voglio fare la maturità», è lo sfogo tutto d’un fiato (e senza giri di parole) di “disagiaTina” (</a:t>
            </a: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nomen omen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«La simulazione di fisica mi ha tolto la voglia di vivere, che già era pari all’1%», calcola mere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portale Skuola.net ha seguito gli sfoghi dei ragazzi sui soci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a Facebook a Twitter, passando per Instagram e Snapchat, oggi non si contavano i selfie dei ragazzi collassati sui fogli delle prove lasciate in bianc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 ne pensano i docenti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 sono stati anche alcuni prof che, prendendo le parti dei ragazzi, hanno annullato la simulazione a «causa dell’elevata difficoltà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 tutti la pensano così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I due problemi erano abbordabili - dice il professor Stefano Accorsi, che insegna allo scientifico Archimede di San Giovanni in Persiceto (Bologna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5 febbrai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ma simulazione: prove contestualizz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deo gioco “meteorit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ppamondo “prezioso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ò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Se un difetto avevano i due problemi, fa notare il professor Accorsi con un pizzico di malizia, è che sembravano saccheggiati dalle prove d’esame del liceo scientifico francese.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«Lo so perché io le consulto in continuazione, sia quelle del Bac che di altri Paesi: in Rete si trova di tutto!», d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ù perplesso il professor Domingo Paola del liceo Giordano Bruno di Albeng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Io vedo tre grandi criticità nello scritto di Fisica - dice -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prima riguarda i ragazzi. Non si può immaginare una prova dello stesso livello di difficoltà di Matematica visto che il monte orario delle due materie è molto divers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57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seconda riguarda noi docenti. E’ vero che siamo tutti abilitati a insegnare Matematica e Fisica ma la verità è che i laureati in Fisica sono pochissimi. Molti di noi, e mi ci metto anch’io, si sentono insufficienti di fronte alle difficoltà concettuali della materi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zo: non esiste una tradizione di prove scritte che, per essere costruita, richiede del tempo e tante simulazioni.» 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A MIUR 15.12.2015, PROT. N. 1357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blicazione del Quadro di Riferimento relativo alla seconda prova scritta dell'esame di Stato di Fisica per i Licei Scientific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…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documento può essere, dunque, un valido orientamento per la preparazione degli studenti all'esame di Stato in quanto enuclea, per ciascun contenuto previsto dalle indicazioni nazionali per il V anno, le abilità e le competenze disciplinari attese e che costituiranno base di riferimento nell'elaborazione della prova d'es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Arial"/>
              </a:rPr>
              <a:t>Le I.N. vengono di fatto cancellat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451640" y="5734080"/>
            <a:ext cx="1150920" cy="719280"/>
          </a:xfrm>
          <a:custGeom>
            <a:avLst/>
            <a:gdLst>
              <a:gd name="textAreaLeft" fmla="*/ 46440 w 1150920"/>
              <a:gd name="textAreaRight" fmla="*/ 1104480 w 115092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4556" h="21600">
                <a:moveTo>
                  <a:pt x="11751" y="3985"/>
                </a:moveTo>
                <a:lnTo>
                  <a:pt x="18749" y="3985"/>
                </a:lnTo>
                <a:lnTo>
                  <a:pt x="22805" y="7484"/>
                </a:lnTo>
                <a:lnTo>
                  <a:pt x="22805" y="17615"/>
                </a:lnTo>
                <a:lnTo>
                  <a:pt x="11751" y="17615"/>
                </a:lnTo>
                <a:close/>
              </a:path>
              <a:path fill="darken" w="34556" h="21600">
                <a:moveTo>
                  <a:pt x="18749" y="3985"/>
                </a:moveTo>
                <a:lnTo>
                  <a:pt x="22805" y="7484"/>
                </a:lnTo>
                <a:lnTo>
                  <a:pt x="18749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08720" y="587700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a MI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e di stato 20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ematica, un sospiro di sollievo. Sì è così! La notizia che sarebbe stata ancora Matematica la materia della seconda prova scritta agli esami di Stato della sessione 2016, ha accomunato tutti, docenti e studenti, del Nord, del Centro, del Sud e delle Isole, in un profondo e liberatorio sospiro di solliev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matematica da bestia nera degli studenti a nemica preferita. Un sospiro tirato collettivamente dopo le simulazioni della prova di Fisica del 25 Gennai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rove sgomentanti proposte da quegli stessi uffici del MIUR diretti dalla dott.ssa Carmela Palumbo che non finiscono per stupire per le norme travisate e/o inventate come i quadri di riferimento scritti su cinque colonne e i problemi che devono essere di tipo “contestualizzato” e farsesco per obbligo di legge, anche se non si sa di quale legg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zi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 esse sembra che il MIUR manifesti la volontà di assume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funzione di guida pedagogica per i licei scientifici del Pa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 dirigere la progettazione didattica dei docen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 scandirne i passi, fornire le prove di verifica intermedie, uguali per tut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n altre parole nel dett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 temp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 mo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osa e come si deve insegn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n aperto contrasto con quanto affermano le I.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Mai si era arrivati a tanto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pettore Domenico Brun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l primo, due ragazzotti amanti dei videogiochi (Marco e Luca) hanno continuamente bisogno di aiuto per risolvere dei quesiti piuttosto banal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n subito voglia di abbandonarli al loro destino, unitamente al primo problem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gni simulazione “costa” alla scuola 6 ore di lezi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 hanno alcun diritto di esist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spicabi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costruzione di un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anc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i prove CONTESTUALIZZATE E NON a partire almeno dal secondo bienni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involgimento nella loro stesura di docenti esperti provenienti dal mondo della scuola e delle associazioni di matematic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zi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tunatamente, però, da come hanno reagito i docenti, c’è da aspettarsi che aumenteranno i licei che acquisiranno il testo della prova, lo valuteranno e decideranno quando proporlo agli studenti, eventualmente emendato degli errori che potrà contene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zione dei docen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tutto però sembra procedere  senza particolari eccitazioni, come se l’iniziale sofferenza stesse lasciando il posto ad una generale e silenziosa accettazi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hi sono stati i commenti sulla prova di fisic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’ come se i docenti, stanchi e demotivati, avessero concordemente deciso di continuare a fare quello che sempre hanno fatto e di aspettare momenti migliori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spi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 gli esami di stato contengano problemi contestualizzati (ben contestualizzati) e non contestualizza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o è fondamentale per ridare alla matematica una sua dignità: non solo la matematica in funzione di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are la divisione tra problemi e quesi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La Mathesis è un’associazione di insegnanti di Matematica e fisica e come tale responsabilmente deve dare voce ai docenti e sostenerli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Ed è quello che sta facend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Penso, come vice presidente nazionale della Mathesis e presidente di una delle sue sezioni, quella di Rovigo, che questo impegno sia un obbligo mor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ed esprimo l’auspicio che la Mathesis </a:t>
            </a: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non sia più sola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a combattere contro queste iniziative MIUR che turbano, scoraggiano, disuniscono e più che migliorare sembrano peggiorare scuola, norme, didattica, professionalità docente,…. e togliere bellezza alla matematica, alla fisica e al loro insegnamento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figura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60357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5219640" y="333360"/>
            <a:ext cx="34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 simboli + e – in un ambiente contestualizzat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0920" y="260280"/>
            <a:ext cx="403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 per sorrider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l secondo problema, occorrono ben 13 righe di inutili melensaggini per porre        l‘ "onesto" quesito ( già proposto nell’esame di maturità del 1972!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 determinare il cono di superficie totale minima circoscritto ad una sfera di raggio 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zie per l’atten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95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ccato che nella realtà a nessuno provvisto del minimo buon senso verrebbe in mente di racchiudere un mappamondo in un espositore di forma conica: si opterebbe certamente per il cubo circoscritto o, meglio ancora, per il cilindro equilatero circoscritto, che sarebbe poi il più economico, giacché la sua superficie totale è i 3/4 di quella del cono di cui sopr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igore il più economico in assoluto sarebbe l'icosaedro regolare circoscritto, ma un espositore di tale forma lo si realizza con difficoltà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0T11:43:43Z</dcterms:created>
  <dc:creator>Elisabetta</dc:creator>
  <dc:description/>
  <dc:language>en-US</dc:language>
  <cp:lastModifiedBy>Elisabetta</cp:lastModifiedBy>
  <dcterms:modified xsi:type="dcterms:W3CDTF">2016-02-24T11:05:29Z</dcterms:modified>
  <cp:revision>72</cp:revision>
  <dc:subject/>
  <dc:title>“Insegnare oggi la matematica: cosa, come e perché”</dc:title>
</cp:coreProperties>
</file>